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D86-0E6B-44EF-9D46-E138333A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B62-473D-4E55-BF0E-38DFE59C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818E2-717C-4206-8DBB-362470E0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45184-B7E4-4448-8068-F7C0526F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26445-1A5D-4984-B9C9-984856B2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9AB2A-BDA0-40F2-9B27-81900452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43D02-A0A2-4459-A3AD-6ABE5A45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63BED-A980-4311-9D09-3F4EC433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82B14-55A8-4C35-9508-D4B4D6A5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E21CC-7773-435F-9505-8A5C137F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62092-A48B-4567-8FE7-CE944536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2EC-EBE6-49DE-A3B5-23B3F1F9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390-03ED-4E96-9362-8D6983D7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C8C4-A126-408F-BE22-BC6A3FDA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7630-EB27-41A8-B898-28524E99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CE86-9B92-4661-ACCA-92516130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9364-48D4-4077-93B2-CA637D8B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1E4F-A39E-4586-A3A0-CA80A91E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79B1-C625-4646-9F31-023DAD31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27EC-BD40-4A31-8A85-B540CEAD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B55-AFE6-4C1B-BCB9-061260BE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469F-B637-47AC-9B29-D9E2BCB0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0591-4BB0-4F8E-9E62-69C787F5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9524-DD48-4127-B346-4D142049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085F-DBD9-4829-AA47-11CEE63C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565E-B4BE-41ED-AEAA-D8A4A604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54D4-0C34-4A7F-A3E0-E7AE248E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08D6-A9E8-422B-B703-BF45A524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53D6C-E38D-4BA8-995F-A15A9B65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542E7-E2C9-4C06-94EC-09E15115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CF620-C912-4DF8-8EEF-F94B7058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A71-9310-46F7-B4CF-94C7FA2A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0696-41B6-453C-BDAE-212A686E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C11D2-76F9-4EB1-8617-3D7C8B66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EC5D-2DAC-4E93-ACCF-BC3BDA57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56439-A83A-4E33-B508-D13F029B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03AC-D81D-4E2D-8D19-A696FA70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E560-EC4B-486A-8E6A-77657303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D512B-A3B5-48A0-A98B-6206E10F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5AA17-C25C-4C22-A098-D0B37C10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3BB7-F9B3-4623-B1AB-7531F689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1A8AB-7BE0-4FE8-8718-F524E419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026-47AF-43A6-8767-8D83A486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6E3F2-2D75-4F24-990E-4F1076FF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CB6EC-EF7A-4940-B8A4-10D57B40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BEE9F-D1BE-4BAC-B1E8-57CC6C66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3422C-4A6B-4ABB-A1EC-6B45BC1A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250EC-6529-4A0A-B7EA-6C5F3C53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37376-B854-47F9-A0AE-1FE204B8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929DC-AF4C-43C1-9B9B-077B5C7B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57DB2-6198-4792-A295-A7F3ECDE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25F3A-DFBB-4066-B173-8D45DD0E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17F50-F54D-4B6B-B80F-D4B578C1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2CF-CBBD-458E-96BD-213C70C4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9FFD-C3E7-42FE-92A0-0E328A11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32395-D8E1-452D-8867-6B7B5FF8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219C7-D254-42E2-ADC4-F9F6B8CA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2020-20DE-47A1-BD13-FD3AED27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712CC-312B-4D04-B0C3-11CBCC05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B5CF3-CF5A-4405-9B4A-42CDED08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C0A28-5C43-44AB-8788-7E34D64D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75B4E-74F9-4268-8719-FF082BB6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B7244-4372-48C3-BD6B-069E8993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CD5D4-12B4-40E1-82A9-14732C14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298-A652-43B1-8B9D-FF7D3B9D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2F0B6-F46E-4EC8-87D9-749D05D4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1050E-CBE5-4D10-9A50-03F7A309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9A20E-4C52-47B4-A697-9E0AF841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4A0F5-053A-4A07-893A-F4453023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1DFE9-C946-4868-9FEF-57A578D9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F7587-FEAB-4529-9AF7-11FAD358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992B1-FADA-4C61-8903-54070844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EA595-A41B-44F4-B865-3BDE0578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4D5CC-7508-45D5-8A52-0AFDC77E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CD096-3EAF-4AB1-9AFB-887643B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04B-FD56-44ED-9033-9C9EDC89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8AFBF-3CE1-4243-8054-82E301C7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CFF0C-BEF1-45AD-AE6F-C30342DA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4C5BC-F225-4F34-9C0E-544D905D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5455D-C234-461C-B0E6-9893FE53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FB2BB-46A3-4D51-BEDD-84D8B3E4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060B2-95DC-4864-B6CD-E1BB77BB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50B7F-DF87-4AD7-99A9-8B44BF78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11FA4-17EA-4DAE-ADE8-AA4C0DBF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D87F7-D931-4F6C-A00A-7387CEEF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1EDE3-CBBD-48F3-B89C-3566616A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F25-DEEE-4587-B79E-B8A5A147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16DCD-65CD-4622-8131-188C27FB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8B478-6156-4103-886D-7692F051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3EBE6-5460-486C-8705-6811640F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CF4F4-0007-4274-9D64-63AC2E77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54FC6-B929-47CB-856C-E37F83B1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862F1-B1A7-41D8-AEB8-3504EDFD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3BFD5-AA16-40E4-A2FF-52B42B17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D63E5-AC3E-4F36-BB82-92EB9EAB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6C395-FD61-45B1-A98E-EB9202E1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C72E2-5821-4A6E-9A8C-4C673A65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737-76BE-4916-AD19-995DD170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CB39F-448B-4F3C-89B6-264F08FC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5A095-04B0-4D66-BB3F-AD969B1F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08CDF-61F7-4CD7-AA8E-2CBC9C9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B5E0B-2DE4-4569-95F2-D1D457E3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83494-BC6D-48EC-A5C4-3045E4DA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77485-034A-4A72-932F-04964A2B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EC2EE-DF9A-48F6-AB05-D48D50AD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971B0-8607-49A8-849E-E979E71A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2F821-06FB-40F0-80CB-B6294DB7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5BC1C-29ED-4FDD-A95D-5AFA7BE3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2112-9C14-4A71-92C4-BE58CFC27FF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67A-5C24-44A4-B246-CD305566F89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F8EA-0468-43AC-8D64-168A200525A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5EEC-185C-4F06-AF1D-43DE261025B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1632-22EC-4575-AE95-DE73E5339A9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3AA7-C510-4BF2-883A-1ED69A3D916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D7BC-14C5-4B19-B2B4-49926979974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56A9-8899-479A-9957-9E66ECB0F80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B764-6475-4E49-BB61-04BC3E54F1F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0" name="Picture 2" descr="C:\Documents and Settings\LL4.URI\Local Settings\Temporary Internet Files\Content.IE5\0HQHO5IR\2275356977_5ee26d83f8_o[1].jpg"/>
          <p:cNvPicPr/>
          <p:nvPr/>
        </p:nvPicPr>
        <p:blipFill>
          <a:blip r:embed="rId1"/>
          <a:stretch/>
        </p:blipFill>
        <p:spPr>
          <a:xfrm>
            <a:off x="205740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the Chinese basketball player first came to America, he could not speak English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f he went to a restaurant, what would he need in order to get by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hinese           =        Bases in DN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terpreter       =        RNA Polymerase (converts information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                                      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to m RNA –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ranscription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nglish             =        Bases in RN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aiter               =        transfer RNA (receives information from m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                                       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NA and delivers amino acid–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ranslation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od                  =        Amino Aci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8:03:22Z</dcterms:created>
  <dc:creator>LL4</dc:creator>
  <dc:description/>
  <dc:language>en-US</dc:language>
  <cp:lastModifiedBy>LL4</cp:lastModifiedBy>
  <dcterms:modified xsi:type="dcterms:W3CDTF">2009-12-19T18:29:37Z</dcterms:modified>
  <cp:revision>3</cp:revision>
  <dc:subject/>
  <dc:title>Slide 1</dc:title>
</cp:coreProperties>
</file>